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E37C-4692-49FA-B48D-FB6AEF6A5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8ECF-FA3F-459F-BC19-29AF36287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3B59-C492-42E7-8EE5-F3D482EC7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EECC-71D7-4772-B1C9-EEF3FC586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CF3C-F2B3-45EF-BCB8-B8387911B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65D5-D064-4319-8DCC-A654B45E0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CC89-CD03-43B0-BE53-8563F72D6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AD5E-4368-484B-9895-2AC4F52D0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A6E-D5D9-48A2-9A52-5CEB9C15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FF4-A155-4E20-A9F6-BED9C000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ED6-BDC3-48E6-B20F-17A6EB71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A65-167A-49F0-88B7-FD69DC29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AC31-E0D7-4274-9AEC-3B79E59B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5285-D7A7-435F-B26A-711DA827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7681-1816-4563-B06F-F8DC8463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D00B-56CA-45C7-8BCF-FAB7DA4F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C70F-6532-49FA-BE4C-AB8419F8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AECD-1EC3-495C-95FB-8A43ED9E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0F73-BD52-4DFE-8425-DEA38B00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DB0-F29F-4085-ADF3-1A86CB78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EFDF-BBEC-49DB-836B-1C9125E0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CDB8-9C83-416C-84E0-AF1B2334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C138-8E93-4B7E-B39F-82FD2228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D1F0-A281-4C41-8AB8-3FABB169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761D-3BCE-4A21-AE0D-36D5445D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BDE7-1A41-498F-B055-FC5ABB5F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8D93-8734-47B1-8BA3-1AA4F260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8328-76A1-4A18-B7B0-75888F34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55752-954F-4C6B-BB7F-A32299FC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9C16-6324-4D63-A962-7EF7CAEC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D56-FD69-4043-8AA2-F6A3A993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8827-5CC1-4DE1-ABB3-6438F81E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93AA-5775-4602-B116-27825203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9AD39-EE64-414E-853A-991EAB9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5827A-9E46-4710-89C4-FC6E15FC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FBF4F-6693-413A-B515-4FBDB6F1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6FD0-7519-4190-A1E4-ABE579E7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6AA5F-BC1A-41EE-A7D7-5567DEBC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C3FB8-58E2-4DCE-85F4-9B1FD9B7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15298-5D6E-4755-A89A-8A1619D1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E033-5B08-4D70-9575-86530FF1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FAC-C5E6-4769-80EE-47D49D32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450C4-AB91-4771-B159-4C5AEB0A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7227-CDBC-4E3B-A8D7-DFAA3027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CAA1-35E1-4FD9-A615-6B767F63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469AC-7C7A-4E13-BAC8-AE050833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4894-93DB-4AF5-BF5A-D39BA12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D648-1ECD-49D2-8DE4-DA92E387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8F1E-741D-4180-9D79-8E5CC9CB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D728-B883-4DF5-89C1-955B8F98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5DE9-B9DD-438B-B6AA-978F0607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113-DFAE-421C-9189-CB427B36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2F2-A109-4CD5-BDC1-E7CC9537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4E4-4B8D-4D11-9333-05A6D867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8C8-E20E-4BBF-A9E1-3BBA01D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E7B-9414-4C1F-B0B9-6E9E8973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1BCF-44CA-443F-B24B-DCF5B5D51DC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089D-D8BA-44D4-A53B-B4CC2BE0882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3102-80F7-4DD6-9423-BC0BFA8F59E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7033-0929-4563-8538-A34913E6AAC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907920"/>
            <a:ext cx="8583480" cy="2365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Reflective Work b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niel Cox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#6 Going backward means going forward…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4" descr="one way signs.jpg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1911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#5: 10 + 8 = 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Content Placeholder 3" descr="dan quayle.jpg"/>
          <p:cNvPicPr/>
          <p:nvPr/>
        </p:nvPicPr>
        <p:blipFill>
          <a:blip r:embed="rId1"/>
          <a:stretch/>
        </p:blipFill>
        <p:spPr>
          <a:xfrm>
            <a:off x="2543040" y="1935000"/>
            <a:ext cx="4057920" cy="43894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#4: MEL isn’t just the cook on Alice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Content Placeholder 3" descr="mel.jpg"/>
          <p:cNvPicPr/>
          <p:nvPr/>
        </p:nvPicPr>
        <p:blipFill>
          <a:blip r:embed="rId1"/>
          <a:stretch/>
        </p:blipFill>
        <p:spPr>
          <a:xfrm>
            <a:off x="2811600" y="1935000"/>
            <a:ext cx="3520800" cy="43894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#3: Being old does not just mean I am closer to AARP…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Content Placeholder 3" descr="old man.bmp"/>
          <p:cNvPicPr/>
          <p:nvPr/>
        </p:nvPicPr>
        <p:blipFill>
          <a:blip r:embed="rId1"/>
          <a:stretch/>
        </p:blipFill>
        <p:spPr>
          <a:xfrm>
            <a:off x="3247920" y="2154240"/>
            <a:ext cx="2648160" cy="3952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#2: Assessments that count for nothing can show everything…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Content Placeholder 6" descr="sleep-learning.jpg"/>
          <p:cNvPicPr/>
          <p:nvPr/>
        </p:nvPicPr>
        <p:blipFill>
          <a:blip r:embed="rId1"/>
          <a:stretch/>
        </p:blipFill>
        <p:spPr>
          <a:xfrm>
            <a:off x="457200" y="27925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14" name="Content Placeholder 7" descr="graduation_cap.bmp"/>
          <p:cNvPicPr/>
          <p:nvPr/>
        </p:nvPicPr>
        <p:blipFill>
          <a:blip r:embed="rId2"/>
          <a:stretch/>
        </p:blipFill>
        <p:spPr>
          <a:xfrm>
            <a:off x="4819680" y="2233440"/>
            <a:ext cx="369576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#1: Job satisfaction is more than just a big paycheck…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Content Placeholder 3" descr="money room.bmp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7:28:58Z</dcterms:created>
  <dc:creator>Dan</dc:creator>
  <dc:description/>
  <dc:language>en-US</dc:language>
  <cp:lastModifiedBy>Dan</cp:lastModifiedBy>
  <dcterms:modified xsi:type="dcterms:W3CDTF">2008-05-07T23:30:19Z</dcterms:modified>
  <cp:revision>16</cp:revision>
  <dc:subject/>
  <dc:title>6 things I learned in Practicum</dc:title>
</cp:coreProperties>
</file>